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93641-452F-4E3B-9E87-D8AFE0FFD1B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7BAD8-2A1D-44DC-B4AB-21383B88C7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ission and Jordanian side…forward thinking, no need to re-create the wh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8743D-4480-4ECD-9517-B6EB16460D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1034B-A36D-44E4-A223-EC5092EEE0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s vs wants….Jordan confidenti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C1DE7-3FC2-4A75-BB52-8C24B3C0F8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02156-830C-4E24-8D89-8F143ACC6C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84B00-115C-433D-98A2-C89EB980A1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n end but a beginning and a cataly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8F775-E14E-447C-BE16-91FD087CCC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007A9-1C80-45E2-A5CF-EC5F2CE76A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64E1-008B-417A-B777-765D09AC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12AE1-AD2F-4FD0-A44C-5716D586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E33E-B10A-41CC-B464-142C3096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95EFA-FF7A-4F39-90DC-43FDFFE0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5C584-A2AF-4EAD-BA11-5E618853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DBE5-97D8-42F1-89BF-A8DD0EF8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466F-32D1-4008-B26A-9970EA44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A4FDA-6115-44A9-8E45-740B7B7E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D8EF-F29F-43C1-A0D4-0A968532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08FA-2A28-4F9F-B8AB-0665BD5A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7409D-1655-423A-9F5F-9E14BE3BF2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4" descr="MESIS_TitleBlock.png"/>
          <p:cNvPicPr/>
          <p:nvPr/>
        </p:nvPicPr>
        <p:blipFill>
          <a:blip r:embed="rId3"/>
          <a:srcRect l="0" t="51333" r="0" b="0"/>
          <a:stretch/>
        </p:blipFill>
        <p:spPr>
          <a:xfrm>
            <a:off x="7875720" y="4930920"/>
            <a:ext cx="1249200" cy="19368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"/>
          <p:cNvPicPr/>
          <p:nvPr/>
        </p:nvPicPr>
        <p:blipFill>
          <a:blip r:embed="rId4"/>
          <a:stretch/>
        </p:blipFill>
        <p:spPr>
          <a:xfrm>
            <a:off x="6599160" y="4889520"/>
            <a:ext cx="1276560" cy="3222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28520" y="4896000"/>
            <a:ext cx="1481040" cy="1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3B491-30AD-4D5A-9661-3DE610B3BC68}" type="datetime">
              <a:rPr b="0" lang="it-IT" sz="1800" spc="-1" strike="noStrike">
                <a:solidFill>
                  <a:srgbClr val="ffffff"/>
                </a:solidFill>
                <a:latin typeface="Corbel"/>
              </a:rPr>
              <a:t>31/07/26</a:t>
            </a:fld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205480" y="4906800"/>
            <a:ext cx="88884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B5ABC-9AF9-45CC-B921-3AC17246A7D0}" type="slidenum">
              <a:rPr b="0" lang="en-US" sz="18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598760" indent="-227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2055960" indent="-227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2055960" indent="-2271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2055960" indent="-2271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657440" y="1428840"/>
            <a:ext cx="5780160" cy="465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1"/>
          <p:cNvSpPr/>
          <p:nvPr/>
        </p:nvSpPr>
        <p:spPr>
          <a:xfrm>
            <a:off x="3429000" y="3952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1405f"/>
                </a:solidFill>
                <a:latin typeface="Corbel"/>
                <a:ea typeface="Roboto Slab"/>
              </a:rPr>
              <a:t>June 14, 2017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509760" y="2757600"/>
            <a:ext cx="825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1405f"/>
                </a:solidFill>
                <a:latin typeface="Corbel"/>
                <a:ea typeface="Roboto Slab"/>
              </a:rPr>
              <a:t>International Science and Technology Center Special Day at Expo 2017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3"/>
          <p:cNvSpPr/>
          <p:nvPr/>
        </p:nvSpPr>
        <p:spPr>
          <a:xfrm>
            <a:off x="2089080" y="0"/>
            <a:ext cx="5715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3543480" y="7920"/>
            <a:ext cx="210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  <a:ea typeface="Roboto Slab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Content Placeholder 3"/>
          <p:cNvSpPr/>
          <p:nvPr/>
        </p:nvSpPr>
        <p:spPr>
          <a:xfrm>
            <a:off x="449280" y="911160"/>
            <a:ext cx="8400960" cy="44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Corbel"/>
                <a:ea typeface="Roboto"/>
              </a:rPr>
              <a:t>Established in 2002 as the Cooperative Monitoring Center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Corbel"/>
                <a:ea typeface="Roboto"/>
              </a:rPr>
              <a:t>Non-profit, non-governmental status, financially-independent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Corbel"/>
                <a:ea typeface="Roboto"/>
              </a:rPr>
              <a:t>Originally a joint initiative between the Royal Scientific Society (Jordan) and Sandia National Labs (US) with support from the Jordan’s Foreign Ministry and the US Department of Energy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Corbel"/>
                <a:ea typeface="Roboto"/>
              </a:rPr>
              <a:t>The first of eight Regional Secretariats to become operational under the EU “Centres of Excellence” initiative on CBRN issues covering Jordan, Lebanon and Iraq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ontent Placeholder 3"/>
          <p:cNvSpPr/>
          <p:nvPr/>
        </p:nvSpPr>
        <p:spPr>
          <a:xfrm>
            <a:off x="1684440" y="1566720"/>
            <a:ext cx="5746680" cy="18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Corbel"/>
                <a:ea typeface="Roboto"/>
              </a:rPr>
              <a:t>To create a space for scientific and policy communities in the region to come together to address CBRN issu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975120" y="7920"/>
            <a:ext cx="12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  <a:ea typeface="Roboto Slab"/>
              </a:rPr>
              <a:t>Vis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3"/>
          <p:cNvSpPr/>
          <p:nvPr/>
        </p:nvSpPr>
        <p:spPr>
          <a:xfrm>
            <a:off x="2089080" y="0"/>
            <a:ext cx="5715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Content Placeholder 3"/>
          <p:cNvSpPr/>
          <p:nvPr/>
        </p:nvSpPr>
        <p:spPr>
          <a:xfrm>
            <a:off x="609480" y="1068480"/>
            <a:ext cx="8085240" cy="33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rbel"/>
                <a:ea typeface="Roboto"/>
              </a:rPr>
              <a:t>Identify emerging needs in the reg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rbel"/>
                <a:ea typeface="Roboto"/>
              </a:rPr>
              <a:t>Identify the right national and regional partner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rbel"/>
                <a:ea typeface="Roboto"/>
              </a:rPr>
              <a:t>Localize and “culturalize” best practic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rbel"/>
                <a:ea typeface="Roboto"/>
              </a:rPr>
              <a:t>Offer innovative training including lab-based training and “gamified” simulation-based train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rbel"/>
                <a:ea typeface="Roboto"/>
              </a:rPr>
              <a:t>(Attempt) to measure impact and qualit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rbel"/>
                <a:ea typeface="Roboto"/>
              </a:rPr>
              <a:t>Act as driver for policymaking in the reg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043520" y="7920"/>
            <a:ext cx="104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  <a:ea typeface="Roboto Slab"/>
              </a:rPr>
              <a:t>Rol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93760" y="808200"/>
            <a:ext cx="8626320" cy="40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rbel"/>
                <a:ea typeface="Roboto"/>
              </a:rPr>
              <a:t>Technical Secretariat of the Middle East Consortium for Infectious Disease Surveillanc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rbel"/>
                <a:ea typeface="Roboto"/>
              </a:rPr>
              <a:t>Developer of Human Reliability Program for Jordan’s Research Reactor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rbel"/>
                <a:ea typeface="Roboto"/>
              </a:rPr>
              <a:t>National project for Radioactive Source Security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rbel"/>
                <a:ea typeface="Roboto"/>
              </a:rPr>
              <a:t>Developer of Jordan’s Counter Nuclear Smuggling Gift Baske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rbel"/>
                <a:ea typeface="Roboto"/>
              </a:rPr>
              <a:t>Oleander Table Top Exercise in Jordan and Leban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rbel"/>
                <a:ea typeface="Roboto"/>
              </a:rPr>
              <a:t>Radiation Measurement Cross-Calibration Network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rbel"/>
                <a:ea typeface="Roboto"/>
              </a:rPr>
              <a:t>Arabic Language Curricula Developers for Customs on  Commodity Identification for Dual Use Goods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rbel"/>
                <a:ea typeface="Roboto"/>
              </a:rPr>
              <a:t>Falcon Tabletop Exercis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3009960" y="7920"/>
            <a:ext cx="351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  <a:ea typeface="Roboto Slab"/>
              </a:rPr>
              <a:t>Sample of Program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"/>
          <p:cNvSpPr/>
          <p:nvPr/>
        </p:nvSpPr>
        <p:spPr>
          <a:xfrm>
            <a:off x="2690640" y="76320"/>
            <a:ext cx="44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Roboto Slab"/>
              </a:rPr>
              <a:t>Science Center Cooper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36600" y="1082520"/>
            <a:ext cx="862632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rbel"/>
                <a:ea typeface="Roboto"/>
              </a:rPr>
              <a:t>Regular consultation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rbel"/>
                <a:ea typeface="Roboto"/>
              </a:rPr>
              <a:t>Bidding on joint projects in Middle Eas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rbel"/>
                <a:ea typeface="Roboto"/>
              </a:rPr>
              <a:t>Participation in  the Global Partnership Meetings (MESIS, ISTC &amp; STCU)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344520" indent="-34452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rbel"/>
                <a:ea typeface="Roboto"/>
              </a:rPr>
              <a:t>Currently cooperating on the establishment of a Regional Radiation Detection Training Center (EU, US, Canada and ISTC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4"/>
          <p:cNvSpPr/>
          <p:nvPr/>
        </p:nvSpPr>
        <p:spPr>
          <a:xfrm>
            <a:off x="2063880" y="47520"/>
            <a:ext cx="45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Roboto Slab"/>
              </a:rPr>
              <a:t>Falcon/Sunkar Closing Though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36600" y="1101600"/>
            <a:ext cx="862632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Corbel"/>
                <a:ea typeface="Roboto"/>
              </a:rPr>
              <a:t>Practice makes perfec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Corbel"/>
                <a:ea typeface="Roboto"/>
              </a:rPr>
              <a:t>We all have gaps in our nuclear security architectur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Corbel"/>
                <a:ea typeface="Roboto"/>
              </a:rPr>
              <a:t>The importance of creating linkages between experts- its too late to exchange business cards during an emergency 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Corbel"/>
                <a:ea typeface="Roboto"/>
              </a:rPr>
              <a:t>Maintain readiness and vigilance, reduces complacenc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Corbel"/>
                <a:ea typeface="Roboto"/>
              </a:rPr>
              <a:t>Importance of 3Cs: cooperation, coordination and communication (nationally, regionally and internationall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08:43:17Z</dcterms:created>
  <dc:creator>Riccardo DE CONCILIIS</dc:creator>
  <dc:description/>
  <dc:language>en-US</dc:language>
  <cp:lastModifiedBy>Nasser</cp:lastModifiedBy>
  <dcterms:modified xsi:type="dcterms:W3CDTF">2017-06-14T03:11:34Z</dcterms:modified>
  <cp:revision>44</cp:revision>
  <dc:subject/>
  <dc:title>PowerPoint Presentation</dc:title>
</cp:coreProperties>
</file>