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2CC4-4568-4744-A1B9-BC0282A2C3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7FB8-534E-41D9-BB72-B7BD28DBE7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6001-23AD-42E0-B6F4-AAB551819D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674D-E428-48B6-A545-7D40BC4BD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BB65-713F-4E99-954D-09A63402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2BE5-EE37-4D88-BC5D-70B3373D9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CD1B-03D9-4361-AF55-EBBE0B94F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3E6B-404F-487D-A7F0-71B08CD3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BD7E-F4C8-475B-9CAA-31746BF3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0A81-F5E2-406C-9D57-5EAB9A03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2127-B014-4A92-89EF-A6C8FD98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A9AE-7EDD-4196-8C48-AD12AA99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9AAC-4269-414E-BDFA-F949EBF8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A5E0-B479-4AB8-8294-693C7320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607C-D732-4E5A-B86D-533CB131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205A-D829-4D61-BC46-3E2CCC6807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5736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оль ученых и кодексы поведения в науках двойного назнач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5705280"/>
            <a:ext cx="6400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 Tj"/>
              </a:rPr>
              <a:t>г. Душанбе, 29  марта 2021 год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 Tj"/>
              </a:rPr>
              <a:t>Анвар Джали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:\Users\User\Documents\Био_безоп_2021\ББ_1.jpg"/>
          <p:cNvPicPr/>
          <p:nvPr/>
        </p:nvPicPr>
        <p:blipFill>
          <a:blip r:embed="rId1"/>
          <a:stretch/>
        </p:blipFill>
        <p:spPr>
          <a:xfrm>
            <a:off x="4932360" y="3222720"/>
            <a:ext cx="3425760" cy="2367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Users\User\Documents\Био_безоп_2021\ББ_2.jpg"/>
          <p:cNvPicPr/>
          <p:nvPr/>
        </p:nvPicPr>
        <p:blipFill>
          <a:blip r:embed="rId2"/>
          <a:stretch/>
        </p:blipFill>
        <p:spPr>
          <a:xfrm>
            <a:off x="785880" y="3343320"/>
            <a:ext cx="3281400" cy="2317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3"/>
          <a:stretch/>
        </p:blipFill>
        <p:spPr>
          <a:xfrm>
            <a:off x="243000" y="284040"/>
            <a:ext cx="1800000" cy="1206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4"/>
          <a:stretch/>
        </p:blipFill>
        <p:spPr>
          <a:xfrm>
            <a:off x="2987640" y="212760"/>
            <a:ext cx="1368360" cy="1347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5"/>
          <a:stretch/>
        </p:blipFill>
        <p:spPr>
          <a:xfrm>
            <a:off x="5148360" y="195120"/>
            <a:ext cx="1739880" cy="14335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" descr=""/>
          <p:cNvPicPr/>
          <p:nvPr/>
        </p:nvPicPr>
        <p:blipFill>
          <a:blip r:embed="rId6"/>
          <a:stretch/>
        </p:blipFill>
        <p:spPr>
          <a:xfrm>
            <a:off x="7451640" y="168120"/>
            <a:ext cx="131292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7733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обая роль уче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2852640"/>
            <a:ext cx="914400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ые могут внести свой вклад, разрабатывая местные решения, например,: добровольные кодексы поведения для регулирования вопросов, не охваченных законодатель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одействовать с политиками и общаться с широкой общественностью, сообщая о результатах  исследо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ологические решения могут включать адаптацию дизайна приложений двойного назна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243000" y="206280"/>
            <a:ext cx="1800000" cy="1206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2987640" y="209520"/>
            <a:ext cx="1368360" cy="1347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3"/>
          <a:stretch/>
        </p:blipFill>
        <p:spPr>
          <a:xfrm>
            <a:off x="5148360" y="195120"/>
            <a:ext cx="1739880" cy="143352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1" descr=""/>
          <p:cNvPicPr/>
          <p:nvPr/>
        </p:nvPicPr>
        <p:blipFill>
          <a:blip r:embed="rId4"/>
          <a:stretch/>
        </p:blipFill>
        <p:spPr>
          <a:xfrm>
            <a:off x="7451640" y="189000"/>
            <a:ext cx="1312920" cy="13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341000"/>
            <a:ext cx="9144000" cy="122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ные элементы «культуры ответственности» - этика, мораль и нравственность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2636640"/>
            <a:ext cx="91440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Этика 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ласть науки, предметом которой является мораль, нравственные отношения, это специфическая форма общественного сознания и жизнедеятельности челове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ораль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от лат. mores – характер, нрав, проявляющийся в общении) – форма общественного сознания и его реализация на практике, утверждающая общественно необходимый тип поведения людей и служащая общесоциальной основой его регулиро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равственность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практическая воплощенность моральных идеалов, целей и установок в различных формах социальной жизнедеятельности, в культуре поведения людей и отношениях между ни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243000" y="206280"/>
            <a:ext cx="1800000" cy="1206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2987640" y="209520"/>
            <a:ext cx="1368360" cy="1347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3"/>
          <a:stretch/>
        </p:blipFill>
        <p:spPr>
          <a:xfrm>
            <a:off x="5148360" y="195120"/>
            <a:ext cx="1739880" cy="143352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1" descr=""/>
          <p:cNvPicPr/>
          <p:nvPr/>
        </p:nvPicPr>
        <p:blipFill>
          <a:blip r:embed="rId4"/>
          <a:stretch/>
        </p:blipFill>
        <p:spPr>
          <a:xfrm>
            <a:off x="7451640" y="189000"/>
            <a:ext cx="1312920" cy="13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научная этика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335772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ая этика определяется совокупностью установленных и признанных научным сообществом норм поведения, правил морали научных работников, занятых в сфере научно-технологической и научно-педагогической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243000" y="206280"/>
            <a:ext cx="1800000" cy="1206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2987640" y="209520"/>
            <a:ext cx="1368360" cy="1347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3"/>
          <a:stretch/>
        </p:blipFill>
        <p:spPr>
          <a:xfrm>
            <a:off x="5148360" y="195120"/>
            <a:ext cx="1739880" cy="143352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1" descr=""/>
          <p:cNvPicPr/>
          <p:nvPr/>
        </p:nvPicPr>
        <p:blipFill>
          <a:blip r:embed="rId4"/>
          <a:stretch/>
        </p:blipFill>
        <p:spPr>
          <a:xfrm>
            <a:off x="7451640" y="189000"/>
            <a:ext cx="1312920" cy="13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17002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декс этики учёного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2420640"/>
            <a:ext cx="914400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ешная научно-исследовательская деятельность  учёных определяется соблюдением ими этики академического сообщества, а также наличием у них этических ценностей учёного. Кодекс этики учёного является системой ценностей, понятий и убеждений, своего рода ориентиром для учёного. Он определяет линию поведения учёных и чувство принадлежности к академическому сообществ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екс этики учёного необходим для формирования у учёных этических ценностей академического сообщества, норм поведения и принципов. Кодекс соответствует общепринятым этическим нормам академического сообщества, является основой саморегулирования поведения и деятельности  учёног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243000" y="206280"/>
            <a:ext cx="1800000" cy="1206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2"/>
          <a:stretch/>
        </p:blipFill>
        <p:spPr>
          <a:xfrm>
            <a:off x="2987640" y="209520"/>
            <a:ext cx="1368360" cy="1347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"/>
          <p:cNvPicPr/>
          <p:nvPr/>
        </p:nvPicPr>
        <p:blipFill>
          <a:blip r:embed="rId3"/>
          <a:stretch/>
        </p:blipFill>
        <p:spPr>
          <a:xfrm>
            <a:off x="5148360" y="195120"/>
            <a:ext cx="1739880" cy="14335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" descr=""/>
          <p:cNvPicPr/>
          <p:nvPr/>
        </p:nvPicPr>
        <p:blipFill>
          <a:blip r:embed="rId4"/>
          <a:stretch/>
        </p:blipFill>
        <p:spPr>
          <a:xfrm>
            <a:off x="7451640" y="189000"/>
            <a:ext cx="1312920" cy="13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1989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щие принципы э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2997360"/>
            <a:ext cx="9144000" cy="38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ности и идеалы академического сообщества в настоящее время претерпевают ряд изменений. В научно-исследовательских  центрах и группах в ВУЗах, ассоциациях профессоров, студенческих союзах в последние два десятилетия внедряется и развивается этическое регулирование: появляются этические кодексы. Документы по реорганизации высшего образования, принятые на международном уровне, также содержат нравственные требования к академическому сообщест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им из таких документов является – «Болонская декларация». Ещё одним широко известным международным документом, свидетельствующим о внимании к проблематике академической этики является «Бухарестская декларация этических ценностей и принципов высшего образования на территории Европы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243000" y="206280"/>
            <a:ext cx="1800000" cy="1206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2987640" y="209520"/>
            <a:ext cx="1368360" cy="1347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3"/>
          <a:stretch/>
        </p:blipFill>
        <p:spPr>
          <a:xfrm>
            <a:off x="5148360" y="195120"/>
            <a:ext cx="1739880" cy="143352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1" descr=""/>
          <p:cNvPicPr/>
          <p:nvPr/>
        </p:nvPicPr>
        <p:blipFill>
          <a:blip r:embed="rId4"/>
          <a:stretch/>
        </p:blipFill>
        <p:spPr>
          <a:xfrm>
            <a:off x="7451640" y="189000"/>
            <a:ext cx="1312920" cy="13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1557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олонская деклар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79280" y="2205000"/>
            <a:ext cx="896472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онская декларац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а на обеспечение сопоставимости стандартов и качества квалификаций высшего образования для других стран в рамках Европейской культурной конвенции Совета Евро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я присоединилась к Болонской декларации в сентябре 2003 года на берлинской встрече министров образования европейских стран. В 2010 году в Будапеште было принято окончательное решение о присоединении Казахстана  к Болонской декларации. Казахстан - первое государство в Центральной Азии, признанное полноправным членом европейского образовательного простран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243000" y="206280"/>
            <a:ext cx="1800000" cy="1206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2987640" y="209520"/>
            <a:ext cx="1368360" cy="1347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5148360" y="195120"/>
            <a:ext cx="1739880" cy="143352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1" descr=""/>
          <p:cNvPicPr/>
          <p:nvPr/>
        </p:nvPicPr>
        <p:blipFill>
          <a:blip r:embed="rId4"/>
          <a:stretch/>
        </p:blipFill>
        <p:spPr>
          <a:xfrm>
            <a:off x="7451640" y="189000"/>
            <a:ext cx="1312920" cy="13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773000"/>
            <a:ext cx="9144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харестская декларация этических ценностей и принципов высшего образования на территории Евро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2923920"/>
            <a:ext cx="91440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ая конференция по этическим и моральным аспектам высшего образования и науки в Европе, которая проводилась в Бухаресте 2-5 сентября 2004 года под совместным высочайшим патронажем президента Франции Жака Ширака и президента Румынии Иона Илиеску в сотрудничестве с Европейской академией точных и гуманитар­ных наук и искусства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a Europensi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Университетом ООН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Подразделением фундаментальных и инженерных наук ЮНЕС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беспечения соответствия этической миссии вузов высочайшим ценностям академического этоса участники конференции призвали политических деятелей, академических работников, исследователей, менеджеров и студентов приложить все усилия к тому, чтобы в их академической деятельности воплотились на деле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243000" y="206280"/>
            <a:ext cx="1800000" cy="1206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2987640" y="209520"/>
            <a:ext cx="1368360" cy="13478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3"/>
          <a:stretch/>
        </p:blipFill>
        <p:spPr>
          <a:xfrm>
            <a:off x="5148360" y="195120"/>
            <a:ext cx="1739880" cy="143352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1" descr=""/>
          <p:cNvPicPr/>
          <p:nvPr/>
        </p:nvPicPr>
        <p:blipFill>
          <a:blip r:embed="rId4"/>
          <a:stretch/>
        </p:blipFill>
        <p:spPr>
          <a:xfrm>
            <a:off x="7451640" y="189000"/>
            <a:ext cx="1312920" cy="13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62864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аспекты академической э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2349360"/>
            <a:ext cx="914400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а  академическая этическая «чистота» ученого, необходимость быть честным относительно научных данных, которые изучается или исследуется в научном коллективе. Не могут быть заранее определенными выводы исследования и ситуации подтасовки фактов под них. Мотивации такого «достижения» могут быть очень разными - от мировоззренческих до карьерных или политическ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ый должен быть готов выходить за рамки своего мировоззрения, готов к кардинальных перелом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ь ученого очень опасен. Истина, знание, обязанность познавать и доносить знания и мораль могут вступить в конфронтацию, например, по проблемам с клонированием живых существ, по вопросу эвтаназии и даже вопросу разглашения знаний об изготовлении обычного вооружения и грязных ядерных боезарядов в домашних услов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243000" y="206280"/>
            <a:ext cx="1800000" cy="1206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2987640" y="209520"/>
            <a:ext cx="1368360" cy="1347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3"/>
          <a:stretch/>
        </p:blipFill>
        <p:spPr>
          <a:xfrm>
            <a:off x="5148360" y="195120"/>
            <a:ext cx="1739880" cy="143352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1" descr=""/>
          <p:cNvPicPr/>
          <p:nvPr/>
        </p:nvPicPr>
        <p:blipFill>
          <a:blip r:embed="rId4"/>
          <a:stretch/>
        </p:blipFill>
        <p:spPr>
          <a:xfrm>
            <a:off x="7451640" y="189000"/>
            <a:ext cx="1312920" cy="13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аспекты ВУЗовской э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2491920"/>
            <a:ext cx="9144000" cy="40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говорить об университетской науке, то нужно быть компетентным в процессе изложения материала. Преподаватель может ошибаться. И это действительно является следствием уровня его квалификации, желанием её повышать и неформально участвовать в научных исследования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ой этических отношений и кодекса чести высших учебных заведений должно выступать понятие «академическая порядочность», которая, в свою очередь, определяется в терминах в пяти фундаментальных ценностей, создающих основы академического процесса: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ность, доверие, справедливость, уважение и ответственнос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243000" y="206280"/>
            <a:ext cx="1800000" cy="1206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2987640" y="209520"/>
            <a:ext cx="1368360" cy="1347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"/>
          <p:cNvPicPr/>
          <p:nvPr/>
        </p:nvPicPr>
        <p:blipFill>
          <a:blip r:embed="rId3"/>
          <a:stretch/>
        </p:blipFill>
        <p:spPr>
          <a:xfrm>
            <a:off x="5148360" y="195120"/>
            <a:ext cx="1739880" cy="143352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1" descr=""/>
          <p:cNvPicPr/>
          <p:nvPr/>
        </p:nvPicPr>
        <p:blipFill>
          <a:blip r:embed="rId4"/>
          <a:stretch/>
        </p:blipFill>
        <p:spPr>
          <a:xfrm>
            <a:off x="7451640" y="189000"/>
            <a:ext cx="1312920" cy="13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1483920"/>
            <a:ext cx="91440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олжен отражать этический кодекс  учёног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2276640"/>
            <a:ext cx="91440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альную ответственность учёного за последствия применения своих открытий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нность информировать научного руководителя и других членов академического сообщества о возможных негативных последствиях применения научного открытия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ое высказывание своего мнения о соблюдении этических норм при проведении исследований, особенно если это подвергает риску людей или общество в целом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ствоваться нормами действующего законодательства, при возникновении вопросов этического характера консультирование с научным руководителем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ую ответственность за качество и достоверность информации при проведении исследования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куратное ведение и хранение данных, которые отражают проделанную работу и полученные результаты, независимо от формы их запис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243000" y="206280"/>
            <a:ext cx="1800000" cy="1206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2987640" y="209520"/>
            <a:ext cx="1368360" cy="1347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"/>
          <p:cNvPicPr/>
          <p:nvPr/>
        </p:nvPicPr>
        <p:blipFill>
          <a:blip r:embed="rId3"/>
          <a:stretch/>
        </p:blipFill>
        <p:spPr>
          <a:xfrm>
            <a:off x="5148360" y="195120"/>
            <a:ext cx="1739880" cy="143352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1" descr=""/>
          <p:cNvPicPr/>
          <p:nvPr/>
        </p:nvPicPr>
        <p:blipFill>
          <a:blip r:embed="rId4"/>
          <a:stretch/>
        </p:blipFill>
        <p:spPr>
          <a:xfrm>
            <a:off x="7451640" y="189000"/>
            <a:ext cx="1312920" cy="13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57000"/>
            <a:ext cx="9144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является наукой двойного назначени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2707920"/>
            <a:ext cx="45720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а двойного назначения – это научные исследования позволяющие создавать проектные, производственные, эксплуатационные или иные технологические разработки, которые могут найти применение как в гражданской, так и военной сфер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C:\Users\User\Documents\Био_безоп_2021\Б_1.jpg"/>
          <p:cNvPicPr/>
          <p:nvPr/>
        </p:nvPicPr>
        <p:blipFill>
          <a:blip r:embed="rId1"/>
          <a:stretch/>
        </p:blipFill>
        <p:spPr>
          <a:xfrm>
            <a:off x="4788000" y="2565360"/>
            <a:ext cx="4356000" cy="3024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243000" y="206280"/>
            <a:ext cx="1800000" cy="1206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3"/>
          <a:stretch/>
        </p:blipFill>
        <p:spPr>
          <a:xfrm>
            <a:off x="2987640" y="209520"/>
            <a:ext cx="1368360" cy="1347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4"/>
          <a:stretch/>
        </p:blipFill>
        <p:spPr>
          <a:xfrm>
            <a:off x="5148360" y="195120"/>
            <a:ext cx="1739880" cy="14335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" descr=""/>
          <p:cNvPicPr/>
          <p:nvPr/>
        </p:nvPicPr>
        <p:blipFill>
          <a:blip r:embed="rId5"/>
          <a:stretch/>
        </p:blipFill>
        <p:spPr>
          <a:xfrm>
            <a:off x="7451640" y="189000"/>
            <a:ext cx="1312920" cy="13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1773360"/>
            <a:ext cx="88930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нравственные принципы этического кодекса  учё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0" y="2852640"/>
            <a:ext cx="914400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ый поиск достоверных фактов, даже если он сопряжен с какими-либо трудностями, для установления и защиты истины как основной цели позн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ажение к созидательному труду своих колле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ическая оценка собственных результатов и достижений, противодействие любым попыткам присвоения результатов труда других исследователей, специалист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стяжательства и интеллектуальная честнос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рассматривать проблему или ситуацию в перспективе и с учетом всех её социальных, экологических и иных последствий для общест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243000" y="206280"/>
            <a:ext cx="1800000" cy="1206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2"/>
          <a:stretch/>
        </p:blipFill>
        <p:spPr>
          <a:xfrm>
            <a:off x="2987640" y="209520"/>
            <a:ext cx="1368360" cy="1347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"/>
          <p:cNvPicPr/>
          <p:nvPr/>
        </p:nvPicPr>
        <p:blipFill>
          <a:blip r:embed="rId3"/>
          <a:stretch/>
        </p:blipFill>
        <p:spPr>
          <a:xfrm>
            <a:off x="5148360" y="195120"/>
            <a:ext cx="1739880" cy="143352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1" descr=""/>
          <p:cNvPicPr/>
          <p:nvPr/>
        </p:nvPicPr>
        <p:blipFill>
          <a:blip r:embed="rId4"/>
          <a:stretch/>
        </p:blipFill>
        <p:spPr>
          <a:xfrm>
            <a:off x="7451640" y="189000"/>
            <a:ext cx="1312920" cy="13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нравственные принципы этического кодекса  учё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3068640"/>
            <a:ext cx="914400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ность к творческому общению с представителями смежных професс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ыделить гражданские и этические аспекты проблем, связанных с поиском новых зна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ление свести до минимума отрицательное воздействие  технических научных разработок на человека, общество и окружающую сред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ицание консерватизма и застоя в творческой деятель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престижа Таджикского ученог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243000" y="206280"/>
            <a:ext cx="1800000" cy="1206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2987640" y="209520"/>
            <a:ext cx="1368360" cy="13478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"/>
          <p:cNvPicPr/>
          <p:nvPr/>
        </p:nvPicPr>
        <p:blipFill>
          <a:blip r:embed="rId3"/>
          <a:stretch/>
        </p:blipFill>
        <p:spPr>
          <a:xfrm>
            <a:off x="5148360" y="195120"/>
            <a:ext cx="1739880" cy="143352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1" descr=""/>
          <p:cNvPicPr/>
          <p:nvPr/>
        </p:nvPicPr>
        <p:blipFill>
          <a:blip r:embed="rId4"/>
          <a:stretch/>
        </p:blipFill>
        <p:spPr>
          <a:xfrm>
            <a:off x="7451640" y="189000"/>
            <a:ext cx="1312920" cy="13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9280" y="184428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ые элементы кодексов пове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3068640"/>
            <a:ext cx="914400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ка и мораль для ученых,  социальные и профессиональные обязан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едомленность о риске и усилия по снижению риска; расширение осведомленности и открытое обсужд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, поощрение обнародования и соблюдения договоров, предписаний и т. д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биологических агентов и биобезопас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за публикациями результатов исследова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обзора содержания исследований для осуществления  финансир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зор за содержанием исследований, обеспечение прозрачности надзора за содержанием исследований и мониторингом исследовательск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243000" y="206280"/>
            <a:ext cx="1800000" cy="1206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2"/>
          <a:stretch/>
        </p:blipFill>
        <p:spPr>
          <a:xfrm>
            <a:off x="2987640" y="209520"/>
            <a:ext cx="1368360" cy="1347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"/>
          <p:cNvPicPr/>
          <p:nvPr/>
        </p:nvPicPr>
        <p:blipFill>
          <a:blip r:embed="rId3"/>
          <a:stretch/>
        </p:blipFill>
        <p:spPr>
          <a:xfrm>
            <a:off x="5148360" y="195120"/>
            <a:ext cx="1739880" cy="143352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1" descr=""/>
          <p:cNvPicPr/>
          <p:nvPr/>
        </p:nvPicPr>
        <p:blipFill>
          <a:blip r:embed="rId4"/>
          <a:stretch/>
        </p:blipFill>
        <p:spPr>
          <a:xfrm>
            <a:off x="7451640" y="189000"/>
            <a:ext cx="1312920" cy="13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1628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биоэтик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79280" y="2349000"/>
            <a:ext cx="8964720" cy="42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ЭТ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это изучение этических и моральных проблем, порождаемых новыми открытиями в области биологии и прогрессом биомедицинской науки в целом, в том числе в области исследований обычных лекарственных средств и лекарств, полученных методами генной инжене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иоэтика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 впервые использован в 1970 американским медиком Ван Ренсселером Поттером, который под биоэтикой понимал область исследований, призванную соединить биологические науки с этикой во имя решения в длительной перспективе задачи выживания человека как биологического вида при обеспечении достойного качества его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243000" y="206280"/>
            <a:ext cx="1800000" cy="1206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2"/>
          <a:stretch/>
        </p:blipFill>
        <p:spPr>
          <a:xfrm>
            <a:off x="2987640" y="209520"/>
            <a:ext cx="1368360" cy="13478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"/>
          <p:cNvPicPr/>
          <p:nvPr/>
        </p:nvPicPr>
        <p:blipFill>
          <a:blip r:embed="rId3"/>
          <a:stretch/>
        </p:blipFill>
        <p:spPr>
          <a:xfrm>
            <a:off x="5148360" y="195120"/>
            <a:ext cx="1739880" cy="143352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1" descr=""/>
          <p:cNvPicPr/>
          <p:nvPr/>
        </p:nvPicPr>
        <p:blipFill>
          <a:blip r:embed="rId4"/>
          <a:stretch/>
        </p:blipFill>
        <p:spPr>
          <a:xfrm>
            <a:off x="7451640" y="189000"/>
            <a:ext cx="1312920" cy="13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пекты этики в применении к проведению исследов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3141720"/>
            <a:ext cx="9144000" cy="32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этических факторов в процессе рассмот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утверждения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этических проблем по ходу всего исслед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птация образа мышления к появляющим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исследования проблемам этического пл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этических проблем в ходе проведения исслед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243000" y="206280"/>
            <a:ext cx="1800000" cy="1206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2987640" y="209520"/>
            <a:ext cx="1368360" cy="13478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"/>
          <p:cNvPicPr/>
          <p:nvPr/>
        </p:nvPicPr>
        <p:blipFill>
          <a:blip r:embed="rId3"/>
          <a:stretch/>
        </p:blipFill>
        <p:spPr>
          <a:xfrm>
            <a:off x="5148360" y="195120"/>
            <a:ext cx="173988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1" descr=""/>
          <p:cNvPicPr/>
          <p:nvPr/>
        </p:nvPicPr>
        <p:blipFill>
          <a:blip r:embed="rId4"/>
          <a:stretch/>
        </p:blipFill>
        <p:spPr>
          <a:xfrm>
            <a:off x="7451640" y="189000"/>
            <a:ext cx="1312920" cy="13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нности исследователя в части э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79280" y="2276640"/>
            <a:ext cx="896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блюдение добросовестности в личном труд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учение подчинённых пониманию и толкованию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кодекс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этик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ощрение дискуссий на тему этики сред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трудник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ы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держка «этических бесед»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ведение регулярного обзора, осуществлённых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ов, а также разработка дополнительных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дур и  правил, учитывающих новые проекты 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243000" y="206280"/>
            <a:ext cx="1800000" cy="1206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"/>
          <p:cNvPicPr/>
          <p:nvPr/>
        </p:nvPicPr>
        <p:blipFill>
          <a:blip r:embed="rId2"/>
          <a:stretch/>
        </p:blipFill>
        <p:spPr>
          <a:xfrm>
            <a:off x="2987640" y="209520"/>
            <a:ext cx="1368360" cy="13478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"/>
          <p:cNvPicPr/>
          <p:nvPr/>
        </p:nvPicPr>
        <p:blipFill>
          <a:blip r:embed="rId3"/>
          <a:stretch/>
        </p:blipFill>
        <p:spPr>
          <a:xfrm>
            <a:off x="5148360" y="195120"/>
            <a:ext cx="1739880" cy="143352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1" descr=""/>
          <p:cNvPicPr/>
          <p:nvPr/>
        </p:nvPicPr>
        <p:blipFill>
          <a:blip r:embed="rId4"/>
          <a:stretch/>
        </p:blipFill>
        <p:spPr>
          <a:xfrm>
            <a:off x="7451640" y="189000"/>
            <a:ext cx="1312920" cy="13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ринципы кодекса поведения по биобезопас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79280" y="3213000"/>
            <a:ext cx="896472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го кодекса поведения является предотвращение прямого или косвенного вклада научных исследований в области наук о жизни или их применения в разработку, производство или накопление биологического оружия, или в любую другое неправильное использование биологических агентов и токси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243000" y="206280"/>
            <a:ext cx="1800000" cy="1206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2"/>
          <a:stretch/>
        </p:blipFill>
        <p:spPr>
          <a:xfrm>
            <a:off x="2987640" y="209520"/>
            <a:ext cx="1368360" cy="13478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"/>
          <p:cNvPicPr/>
          <p:nvPr/>
        </p:nvPicPr>
        <p:blipFill>
          <a:blip r:embed="rId3"/>
          <a:stretch/>
        </p:blipFill>
        <p:spPr>
          <a:xfrm>
            <a:off x="5148360" y="195120"/>
            <a:ext cx="1739880" cy="143352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1" descr=""/>
          <p:cNvPicPr/>
          <p:nvPr/>
        </p:nvPicPr>
        <p:blipFill>
          <a:blip r:embed="rId4"/>
          <a:stretch/>
        </p:blipFill>
        <p:spPr>
          <a:xfrm>
            <a:off x="7451640" y="189000"/>
            <a:ext cx="1312920" cy="13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177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ческий кодекс наук о жи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79280" y="2349360"/>
            <a:ext cx="89647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лица и организации, вовлеченные в аспекты наук о жизни долж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существлять свою работу таким образом, чтобы их открытия и знания не принесли вре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аботать для этического и благотворного продвижения, развития и использования научных зн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ивлекать внимание населения или соответствующих органов к мероприятиям, в отношении которых имеются все разумные основания предполагать, что они способствуют развитию биологического терроризма или биологического оруж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тремиться к тому, чтобы гарантировать, что доступ к биологическим веществам, которые могут быть использованы в качестве биологического оружия, имели только те лица, которые имеют четкие понятия о биологической этике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243000" y="206280"/>
            <a:ext cx="1800000" cy="1206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"/>
          <p:cNvPicPr/>
          <p:nvPr/>
        </p:nvPicPr>
        <p:blipFill>
          <a:blip r:embed="rId2"/>
          <a:stretch/>
        </p:blipFill>
        <p:spPr>
          <a:xfrm>
            <a:off x="2987640" y="209520"/>
            <a:ext cx="1368360" cy="13478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"/>
          <p:cNvPicPr/>
          <p:nvPr/>
        </p:nvPicPr>
        <p:blipFill>
          <a:blip r:embed="rId3"/>
          <a:stretch/>
        </p:blipFill>
        <p:spPr>
          <a:xfrm>
            <a:off x="5148360" y="195120"/>
            <a:ext cx="1739880" cy="143352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1" descr=""/>
          <p:cNvPicPr/>
          <p:nvPr/>
        </p:nvPicPr>
        <p:blipFill>
          <a:blip r:embed="rId4"/>
          <a:stretch/>
        </p:blipFill>
        <p:spPr>
          <a:xfrm>
            <a:off x="7451640" y="189000"/>
            <a:ext cx="1312920" cy="13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ческий кодекс наук о жи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тремиться к тому, чтобы ограничить распространение информации и знаний, которые могут быть использованы при биологическом терроризме или в качестве биологического оружия теми, кто должен использовать эти знания на пользу общества и в законных целях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Изучать и контролировать исследовательскую деятельность, чтобы гарантировать, что польза от этой работы перевешивает риск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Подчиняться законам и правилам, которые применяются в науке, за исключением тех случаев, когда это неэтично, и осознавать ответственность при попытке изменения законов и правил, которые входят в конфликт с этико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Признавать, что все люди имеют право принимать участие в проведении исследований, которые они считают обоснованными с точки зрения этики и морал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Довести до сведения всех, кто принимает участие или будет принимать участие в научных исследованиях, этот кодекс и его этические принцип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243000" y="206280"/>
            <a:ext cx="1800000" cy="12067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2987640" y="209520"/>
            <a:ext cx="1368360" cy="13478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"/>
          <p:cNvPicPr/>
          <p:nvPr/>
        </p:nvPicPr>
        <p:blipFill>
          <a:blip r:embed="rId3"/>
          <a:stretch/>
        </p:blipFill>
        <p:spPr>
          <a:xfrm>
            <a:off x="5148360" y="195120"/>
            <a:ext cx="1739880" cy="143352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1" descr=""/>
          <p:cNvPicPr/>
          <p:nvPr/>
        </p:nvPicPr>
        <p:blipFill>
          <a:blip r:embed="rId4"/>
          <a:stretch/>
        </p:blipFill>
        <p:spPr>
          <a:xfrm>
            <a:off x="7451640" y="189000"/>
            <a:ext cx="1312920" cy="13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вопросы этики в наук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50560" y="2781000"/>
            <a:ext cx="8893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обсуждений, проводимых на заседаниях научных советов или собраниях сотрудников исследовательских лабораторий, обязательно должны обсуждаться моральные и этические аспекты конкретных исследовательских про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необходимо проанализировать, могут ли результаты проводимых исследований быть использованы во вред человеку, и поэтому их, может быть, не нужно публиковать в полном объ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243000" y="206280"/>
            <a:ext cx="1800000" cy="1206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2987640" y="209520"/>
            <a:ext cx="1368360" cy="13478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"/>
          <p:cNvPicPr/>
          <p:nvPr/>
        </p:nvPicPr>
        <p:blipFill>
          <a:blip r:embed="rId3"/>
          <a:stretch/>
        </p:blipFill>
        <p:spPr>
          <a:xfrm>
            <a:off x="5148360" y="195120"/>
            <a:ext cx="1739880" cy="143352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1" descr=""/>
          <p:cNvPicPr/>
          <p:nvPr/>
        </p:nvPicPr>
        <p:blipFill>
          <a:blip r:embed="rId4"/>
          <a:stretch/>
        </p:blipFill>
        <p:spPr>
          <a:xfrm>
            <a:off x="7451640" y="189000"/>
            <a:ext cx="1312920" cy="13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483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относится к товаром двойного назначени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50920" y="2565360"/>
            <a:ext cx="540072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ам двойного назначения относятся отдельные виды сырья, материалов, оборудования, а также технологии, которые могут использоваться не только в гражданских, но и в военных целях, например, для создания различных видов биологического оружия и д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4" descr="C:\Users\User\Documents\Био_безоп_2021\Б_8.jpg"/>
          <p:cNvPicPr/>
          <p:nvPr/>
        </p:nvPicPr>
        <p:blipFill>
          <a:blip r:embed="rId1"/>
          <a:srcRect l="13331" t="0" r="15246" b="5841"/>
          <a:stretch/>
        </p:blipFill>
        <p:spPr>
          <a:xfrm>
            <a:off x="5796000" y="3149640"/>
            <a:ext cx="2998800" cy="2655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243000" y="206280"/>
            <a:ext cx="1800000" cy="1206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3"/>
          <a:stretch/>
        </p:blipFill>
        <p:spPr>
          <a:xfrm>
            <a:off x="2987640" y="209520"/>
            <a:ext cx="1368360" cy="1347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4"/>
          <a:stretch/>
        </p:blipFill>
        <p:spPr>
          <a:xfrm>
            <a:off x="5148360" y="195120"/>
            <a:ext cx="1739880" cy="14335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" descr=""/>
          <p:cNvPicPr/>
          <p:nvPr/>
        </p:nvPicPr>
        <p:blipFill>
          <a:blip r:embed="rId5"/>
          <a:stretch/>
        </p:blipFill>
        <p:spPr>
          <a:xfrm>
            <a:off x="7451640" y="189000"/>
            <a:ext cx="1312920" cy="13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ирование о нарушени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242100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нностью всех лиц, работающих в лаборатории - от техника-лаборанта до научного руководителя, является гарантия проведения исключительно этических исследов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сообщать о проведении неэтическ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незаконных исследований в соответствующ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шестоящие инстанции, вплоть до министерства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оохра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243000" y="206280"/>
            <a:ext cx="1800000" cy="1206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2"/>
          <a:stretch/>
        </p:blipFill>
        <p:spPr>
          <a:xfrm>
            <a:off x="2987640" y="209520"/>
            <a:ext cx="1368360" cy="13478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5148360" y="195120"/>
            <a:ext cx="1739880" cy="143352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1" descr=""/>
          <p:cNvPicPr/>
          <p:nvPr/>
        </p:nvPicPr>
        <p:blipFill>
          <a:blip r:embed="rId4"/>
          <a:stretch/>
        </p:blipFill>
        <p:spPr>
          <a:xfrm>
            <a:off x="7451640" y="189000"/>
            <a:ext cx="1312920" cy="13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162864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 этики в области биобезопасности и биоохран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2637000"/>
            <a:ext cx="86868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 этики, относящиеся к безопасности и биоохране, связаны с неправильным или незаконным обращением и использова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оге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руд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и о методах получения, очистки патогенов и другой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ительной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цилла сибирской яз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Рисунок 3" descr="C:\Users\Asus\AppData\Local\Temp\FineReader11\media\image12.jpeg"/>
          <p:cNvPicPr/>
          <p:nvPr/>
        </p:nvPicPr>
        <p:blipFill>
          <a:blip r:embed="rId1"/>
          <a:stretch/>
        </p:blipFill>
        <p:spPr>
          <a:xfrm>
            <a:off x="3851280" y="4653000"/>
            <a:ext cx="2158920" cy="142884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4" descr="C:\Users\Asus\AppData\Local\Temp\FineReader11\media\image11.jpeg"/>
          <p:cNvPicPr/>
          <p:nvPr/>
        </p:nvPicPr>
        <p:blipFill>
          <a:blip r:embed="rId2"/>
          <a:stretch/>
        </p:blipFill>
        <p:spPr>
          <a:xfrm>
            <a:off x="7164360" y="4487760"/>
            <a:ext cx="1704960" cy="19414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"/>
          <p:cNvPicPr/>
          <p:nvPr/>
        </p:nvPicPr>
        <p:blipFill>
          <a:blip r:embed="rId3"/>
          <a:stretch/>
        </p:blipFill>
        <p:spPr>
          <a:xfrm>
            <a:off x="243000" y="206280"/>
            <a:ext cx="1800000" cy="1206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"/>
          <p:cNvPicPr/>
          <p:nvPr/>
        </p:nvPicPr>
        <p:blipFill>
          <a:blip r:embed="rId4"/>
          <a:stretch/>
        </p:blipFill>
        <p:spPr>
          <a:xfrm>
            <a:off x="2987640" y="209520"/>
            <a:ext cx="1368360" cy="13478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"/>
          <p:cNvPicPr/>
          <p:nvPr/>
        </p:nvPicPr>
        <p:blipFill>
          <a:blip r:embed="rId5"/>
          <a:stretch/>
        </p:blipFill>
        <p:spPr>
          <a:xfrm>
            <a:off x="5148360" y="195120"/>
            <a:ext cx="1739880" cy="143352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1" descr=""/>
          <p:cNvPicPr/>
          <p:nvPr/>
        </p:nvPicPr>
        <p:blipFill>
          <a:blip r:embed="rId6"/>
          <a:stretch/>
        </p:blipFill>
        <p:spPr>
          <a:xfrm>
            <a:off x="7451640" y="189000"/>
            <a:ext cx="1312920" cy="13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Рисунок 10" descr="C:\Users\Asus\AppData\Local\Temp\FineReader11\media\image14.jpeg"/>
          <p:cNvPicPr/>
          <p:nvPr/>
        </p:nvPicPr>
        <p:blipFill>
          <a:blip r:embed="rId1"/>
          <a:srcRect l="0" t="0" r="2909" b="4578"/>
          <a:stretch/>
        </p:blipFill>
        <p:spPr>
          <a:xfrm>
            <a:off x="5337000" y="4664160"/>
            <a:ext cx="2548080" cy="164448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9" descr="C:\Users\Asus\AppData\Local\Temp\FineReader11\media\image15.jpeg"/>
          <p:cNvPicPr/>
          <p:nvPr/>
        </p:nvPicPr>
        <p:blipFill>
          <a:blip r:embed="rId2"/>
          <a:stretch/>
        </p:blipFill>
        <p:spPr>
          <a:xfrm>
            <a:off x="1403280" y="4632480"/>
            <a:ext cx="2933640" cy="167616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141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ческие вопросы биобезопасности и биозащи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50560" y="2637000"/>
            <a:ext cx="84358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, разработка штамм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illus anthracl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ибирской язвы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дающего устойчивостью к нескольким антибиотикам для того, чтобы испытать новый класс антибиотиков, которые будут применяться против агентов с приобретенной устойчивостью - насколько это этично в рамках защиты от возможного биологического оруж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в любом случае сам штамм и технологии его получения - это то, что над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ЩАТЕЛЬ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хранять 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ЬЗ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давать без официальной санкци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3"/>
          <a:stretch/>
        </p:blipFill>
        <p:spPr>
          <a:xfrm>
            <a:off x="243000" y="206280"/>
            <a:ext cx="1800000" cy="1206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"/>
          <p:cNvPicPr/>
          <p:nvPr/>
        </p:nvPicPr>
        <p:blipFill>
          <a:blip r:embed="rId4"/>
          <a:stretch/>
        </p:blipFill>
        <p:spPr>
          <a:xfrm>
            <a:off x="2987640" y="209520"/>
            <a:ext cx="1368360" cy="13478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"/>
          <p:cNvPicPr/>
          <p:nvPr/>
        </p:nvPicPr>
        <p:blipFill>
          <a:blip r:embed="rId5"/>
          <a:stretch/>
        </p:blipFill>
        <p:spPr>
          <a:xfrm>
            <a:off x="5148360" y="195120"/>
            <a:ext cx="1739880" cy="143352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1" descr=""/>
          <p:cNvPicPr/>
          <p:nvPr/>
        </p:nvPicPr>
        <p:blipFill>
          <a:blip r:embed="rId6"/>
          <a:stretch/>
        </p:blipFill>
        <p:spPr>
          <a:xfrm>
            <a:off x="7451640" y="189000"/>
            <a:ext cx="1312920" cy="13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1628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ческие вопросы биобезопасности при перевозке патоге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Объект 3" descr="C:\Users\Asus\AppData\Local\Temp\FineReader11\media\image23.png"/>
          <p:cNvPicPr/>
          <p:nvPr/>
        </p:nvPicPr>
        <p:blipFill>
          <a:blip r:embed="rId1"/>
          <a:srcRect l="57893" t="6266" r="6324" b="32101"/>
          <a:stretch/>
        </p:blipFill>
        <p:spPr>
          <a:xfrm>
            <a:off x="755640" y="4292640"/>
            <a:ext cx="3311640" cy="223200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4" descr="C:\Users\Asus\AppData\Local\Temp\FineReader11\media\image20.jpeg"/>
          <p:cNvPicPr/>
          <p:nvPr/>
        </p:nvPicPr>
        <p:blipFill>
          <a:blip r:embed="rId2"/>
          <a:stretch/>
        </p:blipFill>
        <p:spPr>
          <a:xfrm>
            <a:off x="4624560" y="4349880"/>
            <a:ext cx="3835080" cy="2103480"/>
          </a:xfrm>
          <a:prstGeom prst="rect">
            <a:avLst/>
          </a:prstGeom>
          <a:ln w="0">
            <a:noFill/>
          </a:ln>
        </p:spPr>
      </p:pic>
      <p:sp>
        <p:nvSpPr>
          <p:cNvPr id="252" name="Прямоугольник 5"/>
          <p:cNvSpPr/>
          <p:nvPr/>
        </p:nvSpPr>
        <p:spPr>
          <a:xfrm>
            <a:off x="0" y="278136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сбора образцов Yersinia pestis в Танзании, ученый сел в пассажирский самолет, положив защищенную ампулу с образцами во внутренний карман пиджака. Это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РОЗ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доровью пассажиров 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БЕЙШЕ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рушение правил перевоз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"/>
          <p:cNvPicPr/>
          <p:nvPr/>
        </p:nvPicPr>
        <p:blipFill>
          <a:blip r:embed="rId3"/>
          <a:stretch/>
        </p:blipFill>
        <p:spPr>
          <a:xfrm>
            <a:off x="243000" y="206280"/>
            <a:ext cx="1800000" cy="12067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"/>
          <p:cNvPicPr/>
          <p:nvPr/>
        </p:nvPicPr>
        <p:blipFill>
          <a:blip r:embed="rId4"/>
          <a:stretch/>
        </p:blipFill>
        <p:spPr>
          <a:xfrm>
            <a:off x="2987640" y="209520"/>
            <a:ext cx="1368360" cy="13478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"/>
          <p:cNvPicPr/>
          <p:nvPr/>
        </p:nvPicPr>
        <p:blipFill>
          <a:blip r:embed="rId5"/>
          <a:stretch/>
        </p:blipFill>
        <p:spPr>
          <a:xfrm>
            <a:off x="5148360" y="195120"/>
            <a:ext cx="1739880" cy="143352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1" descr=""/>
          <p:cNvPicPr/>
          <p:nvPr/>
        </p:nvPicPr>
        <p:blipFill>
          <a:blip r:embed="rId6"/>
          <a:stretch/>
        </p:blipFill>
        <p:spPr>
          <a:xfrm>
            <a:off x="7451640" y="189000"/>
            <a:ext cx="1312920" cy="13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2349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ческие вопросы в отношении окружающей среды и использования лабораторных живо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3933360"/>
            <a:ext cx="914400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оведении исследований, которые могут повлиять на состояние окружающей среды, следует соблюдать необходимую осторожность. Также следует обеспечить благополучие животных, используемых в исследовательских цел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"/>
          <p:cNvPicPr/>
          <p:nvPr/>
        </p:nvPicPr>
        <p:blipFill>
          <a:blip r:embed="rId1"/>
          <a:stretch/>
        </p:blipFill>
        <p:spPr>
          <a:xfrm>
            <a:off x="243000" y="206280"/>
            <a:ext cx="1800000" cy="1206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2987640" y="209520"/>
            <a:ext cx="1368360" cy="13478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3"/>
          <a:stretch/>
        </p:blipFill>
        <p:spPr>
          <a:xfrm>
            <a:off x="5148360" y="195120"/>
            <a:ext cx="1739880" cy="143352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1" descr=""/>
          <p:cNvPicPr/>
          <p:nvPr/>
        </p:nvPicPr>
        <p:blipFill>
          <a:blip r:embed="rId4"/>
          <a:stretch/>
        </p:blipFill>
        <p:spPr>
          <a:xfrm>
            <a:off x="7451640" y="189000"/>
            <a:ext cx="1312920" cy="13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191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екс поведения для ученых в отношении безопасного и этического использования биологических на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3068640"/>
            <a:ext cx="9144000" cy="35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тябрь 2001 года - Группа, разрабатывающая политику ООН по отчетам ООН и по терроризму, рекомендует должностным лицам ООН выработать предложения п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еплению этических нор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ю кодекса поведения для уче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ый центр генной инженерии и биотехнологий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GE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прове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яд консультаций с Национальной академией наук Итал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была разработана предварительная версия «Кодекса поведения для ученых в отношении безопасного и соответствующего этическим нормам использования биологических наук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243000" y="206280"/>
            <a:ext cx="1800000" cy="12067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"/>
          <p:cNvPicPr/>
          <p:nvPr/>
        </p:nvPicPr>
        <p:blipFill>
          <a:blip r:embed="rId2"/>
          <a:stretch/>
        </p:blipFill>
        <p:spPr>
          <a:xfrm>
            <a:off x="2987640" y="209520"/>
            <a:ext cx="1368360" cy="13478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" descr=""/>
          <p:cNvPicPr/>
          <p:nvPr/>
        </p:nvPicPr>
        <p:blipFill>
          <a:blip r:embed="rId3"/>
          <a:stretch/>
        </p:blipFill>
        <p:spPr>
          <a:xfrm>
            <a:off x="5148360" y="195120"/>
            <a:ext cx="1739880" cy="143352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1" descr=""/>
          <p:cNvPicPr/>
          <p:nvPr/>
        </p:nvPicPr>
        <p:blipFill>
          <a:blip r:embed="rId4"/>
          <a:stretch/>
        </p:blipFill>
        <p:spPr>
          <a:xfrm>
            <a:off x="7451640" y="189000"/>
            <a:ext cx="1312920" cy="13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79280" y="1699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ные положения, включаемые в Кодекс биоэ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2781360"/>
            <a:ext cx="91440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ые, работающие в сфере биологических наук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ы понимать, чт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я и технологии, которые существуют на данный момент или которые станут доступными в ближайшем будущем, открывают огромные возможност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- возможно двойное использование данных технологи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ют этические принципы их профессии и существует ответственность перед обществом и человечеством в цело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альным долгом ученых является работа лишь в целях преумножения знаний и принесения пользы для человечества и окружающей сре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243000" y="206280"/>
            <a:ext cx="1800000" cy="12067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"/>
          <p:cNvPicPr/>
          <p:nvPr/>
        </p:nvPicPr>
        <p:blipFill>
          <a:blip r:embed="rId2"/>
          <a:stretch/>
        </p:blipFill>
        <p:spPr>
          <a:xfrm>
            <a:off x="2987640" y="209520"/>
            <a:ext cx="1368360" cy="13478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"/>
          <p:cNvPicPr/>
          <p:nvPr/>
        </p:nvPicPr>
        <p:blipFill>
          <a:blip r:embed="rId3"/>
          <a:stretch/>
        </p:blipFill>
        <p:spPr>
          <a:xfrm>
            <a:off x="5148360" y="195120"/>
            <a:ext cx="1739880" cy="143352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1" descr=""/>
          <p:cNvPicPr/>
          <p:nvPr/>
        </p:nvPicPr>
        <p:blipFill>
          <a:blip r:embed="rId4"/>
          <a:stretch/>
        </p:blipFill>
        <p:spPr>
          <a:xfrm>
            <a:off x="7451640" y="189000"/>
            <a:ext cx="1312920" cy="13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19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ные положения, включаемые в Кодекс биоэ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3284280"/>
            <a:ext cx="9144000" cy="28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избежание риска непреднамеренного нанесения вреда, соблюдение предосторожностей при проведении лабораторных процедур также является частью морального долга ученых, особенно тех, кто работает с патогенными организмами или с опасными токсинам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возникновения подозрений относительно враждебного использования результатов исследований, ученый должен поднять данный вопрос на соответствующем уровн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1"/>
          <a:stretch/>
        </p:blipFill>
        <p:spPr>
          <a:xfrm>
            <a:off x="243000" y="206280"/>
            <a:ext cx="1800000" cy="1206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"/>
          <p:cNvPicPr/>
          <p:nvPr/>
        </p:nvPicPr>
        <p:blipFill>
          <a:blip r:embed="rId2"/>
          <a:stretch/>
        </p:blipFill>
        <p:spPr>
          <a:xfrm>
            <a:off x="2987640" y="209520"/>
            <a:ext cx="1368360" cy="13478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" descr=""/>
          <p:cNvPicPr/>
          <p:nvPr/>
        </p:nvPicPr>
        <p:blipFill>
          <a:blip r:embed="rId3"/>
          <a:stretch/>
        </p:blipFill>
        <p:spPr>
          <a:xfrm>
            <a:off x="5148360" y="195120"/>
            <a:ext cx="1739880" cy="143352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1" descr=""/>
          <p:cNvPicPr/>
          <p:nvPr/>
        </p:nvPicPr>
        <p:blipFill>
          <a:blip r:embed="rId4"/>
          <a:stretch/>
        </p:blipFill>
        <p:spPr>
          <a:xfrm>
            <a:off x="7451640" y="189000"/>
            <a:ext cx="1312920" cy="13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9280" y="1700280"/>
            <a:ext cx="896472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кодекса поведения уче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2420640"/>
            <a:ext cx="914400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ы, которые должны быть включены в Кодекс поведения, включают меры по повышению сознательности ученых, работающих с потенциально опасными возбудителями и материал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екс поведения исследователя должен включ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ренность в том, что ученые осознают потенциальные риски, вызываемые их деятельн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этической и социальной ответственности уче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ъяснение ученым национальных и международных правил, норм и огранич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рантии биобезопасности и биозащи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пущение двоякого использования и злоупотребления результатами исследований преступниками и террорис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243000" y="206280"/>
            <a:ext cx="1800000" cy="12067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" descr=""/>
          <p:cNvPicPr/>
          <p:nvPr/>
        </p:nvPicPr>
        <p:blipFill>
          <a:blip r:embed="rId2"/>
          <a:stretch/>
        </p:blipFill>
        <p:spPr>
          <a:xfrm>
            <a:off x="2987640" y="209520"/>
            <a:ext cx="1368360" cy="13478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" descr=""/>
          <p:cNvPicPr/>
          <p:nvPr/>
        </p:nvPicPr>
        <p:blipFill>
          <a:blip r:embed="rId3"/>
          <a:stretch/>
        </p:blipFill>
        <p:spPr>
          <a:xfrm>
            <a:off x="5148360" y="195120"/>
            <a:ext cx="1739880" cy="143352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1" descr=""/>
          <p:cNvPicPr/>
          <p:nvPr/>
        </p:nvPicPr>
        <p:blipFill>
          <a:blip r:embed="rId4"/>
          <a:stretch/>
        </p:blipFill>
        <p:spPr>
          <a:xfrm>
            <a:off x="7451640" y="189000"/>
            <a:ext cx="1312920" cy="13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191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ю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2491920"/>
            <a:ext cx="91440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этика - это изучение этических и моральных вопросов, связанных с новыми открытиями в сфере биологии и биомедицины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включает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ы Биоэтик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ичинение вреда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ажение к жизни (люди, животные и окружающая среда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ая ответственность заключается в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и добросовестной работы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ъяснении Кодекса поведения своим сотрудникам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пущении несанкционированной передачи патогенов и технологий двойного назначения или их использования в незаконных, неэтичных целях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ощрении обсуждения этических вопросов среди сотрудников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243000" y="206280"/>
            <a:ext cx="1800000" cy="12067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"/>
          <p:cNvPicPr/>
          <p:nvPr/>
        </p:nvPicPr>
        <p:blipFill>
          <a:blip r:embed="rId2"/>
          <a:stretch/>
        </p:blipFill>
        <p:spPr>
          <a:xfrm>
            <a:off x="2987640" y="209520"/>
            <a:ext cx="1368360" cy="13478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" descr=""/>
          <p:cNvPicPr/>
          <p:nvPr/>
        </p:nvPicPr>
        <p:blipFill>
          <a:blip r:embed="rId3"/>
          <a:stretch/>
        </p:blipFill>
        <p:spPr>
          <a:xfrm>
            <a:off x="5148360" y="195120"/>
            <a:ext cx="1739880" cy="1433520"/>
          </a:xfrm>
          <a:prstGeom prst="rect">
            <a:avLst/>
          </a:prstGeom>
          <a:ln w="0">
            <a:noFill/>
          </a:ln>
        </p:spPr>
      </p:pic>
      <p:pic>
        <p:nvPicPr>
          <p:cNvPr id="292" name="Рисунок 1" descr=""/>
          <p:cNvPicPr/>
          <p:nvPr/>
        </p:nvPicPr>
        <p:blipFill>
          <a:blip r:embed="rId4"/>
          <a:stretch/>
        </p:blipFill>
        <p:spPr>
          <a:xfrm>
            <a:off x="7451640" y="189000"/>
            <a:ext cx="1312920" cy="13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77336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ки контролируемых товар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-360" y="2492280"/>
            <a:ext cx="4941720" cy="38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лижайшее время для Республики Таджикистан должны быть разработаны множество перечней контролируемых товаров и технологий, которые будут утверждаться  Указами Президента. Для совершения внешнеэкономической деятельности с продукцией, указанной в списках, необходимо будет получать лицензию или специальное раз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3" descr="C:\Users\User\Documents\Био_безоп_2021\Б_5.jpg"/>
          <p:cNvPicPr/>
          <p:nvPr/>
        </p:nvPicPr>
        <p:blipFill>
          <a:blip r:embed="rId1"/>
          <a:srcRect l="3069" t="12307" r="27421" b="10143"/>
          <a:stretch/>
        </p:blipFill>
        <p:spPr>
          <a:xfrm>
            <a:off x="4981680" y="3643200"/>
            <a:ext cx="4127400" cy="3071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243000" y="206280"/>
            <a:ext cx="1800000" cy="1206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3"/>
          <a:stretch/>
        </p:blipFill>
        <p:spPr>
          <a:xfrm>
            <a:off x="2987640" y="209520"/>
            <a:ext cx="1368360" cy="1347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4"/>
          <a:stretch/>
        </p:blipFill>
        <p:spPr>
          <a:xfrm>
            <a:off x="5148360" y="195120"/>
            <a:ext cx="1739880" cy="14335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" descr=""/>
          <p:cNvPicPr/>
          <p:nvPr/>
        </p:nvPicPr>
        <p:blipFill>
          <a:blip r:embed="rId5"/>
          <a:stretch/>
        </p:blipFill>
        <p:spPr>
          <a:xfrm>
            <a:off x="7451640" y="189000"/>
            <a:ext cx="1312920" cy="13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4" descr="C:\Users\User\Documents\Био_безоп_2021\Б_2.jpg"/>
          <p:cNvPicPr/>
          <p:nvPr/>
        </p:nvPicPr>
        <p:blipFill>
          <a:blip r:embed="rId1"/>
          <a:stretch/>
        </p:blipFill>
        <p:spPr>
          <a:xfrm>
            <a:off x="428760" y="2637000"/>
            <a:ext cx="8286480" cy="41432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4" descr=""/>
          <p:cNvPicPr/>
          <p:nvPr/>
        </p:nvPicPr>
        <p:blipFill>
          <a:blip r:embed="rId2"/>
          <a:stretch/>
        </p:blipFill>
        <p:spPr>
          <a:xfrm>
            <a:off x="243000" y="206280"/>
            <a:ext cx="1800000" cy="12067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" descr=""/>
          <p:cNvPicPr/>
          <p:nvPr/>
        </p:nvPicPr>
        <p:blipFill>
          <a:blip r:embed="rId3"/>
          <a:stretch/>
        </p:blipFill>
        <p:spPr>
          <a:xfrm>
            <a:off x="2987640" y="209520"/>
            <a:ext cx="1368360" cy="13478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" descr=""/>
          <p:cNvPicPr/>
          <p:nvPr/>
        </p:nvPicPr>
        <p:blipFill>
          <a:blip r:embed="rId4"/>
          <a:stretch/>
        </p:blipFill>
        <p:spPr>
          <a:xfrm>
            <a:off x="5148360" y="195120"/>
            <a:ext cx="1739880" cy="1433520"/>
          </a:xfrm>
          <a:prstGeom prst="rect">
            <a:avLst/>
          </a:prstGeom>
          <a:ln w="0">
            <a:noFill/>
          </a:ln>
        </p:spPr>
      </p:pic>
      <p:pic>
        <p:nvPicPr>
          <p:cNvPr id="298" name="Рисунок 1" descr=""/>
          <p:cNvPicPr/>
          <p:nvPr/>
        </p:nvPicPr>
        <p:blipFill>
          <a:blip r:embed="rId5"/>
          <a:stretch/>
        </p:blipFill>
        <p:spPr>
          <a:xfrm>
            <a:off x="7451640" y="189000"/>
            <a:ext cx="1312920" cy="13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9162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кон РТ «Об экспортном контрол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0" y="2781360"/>
            <a:ext cx="91440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 РЕСПУБЛИКИ ТАДЖИКИСТАН «Об экспортном контроле принят 31 декабря 2014 года за №116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анный закон 24.02.2017 г. (№1392) внесены попра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тоящий Закон регулирует общественные отношения, связанные с организацией экспортного контроля, внешнеэкономической деятельности и международного сотрудничества в области экспортного контроля по отношению контролируемых товаров, технологий и программных обеспеч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243000" y="206280"/>
            <a:ext cx="1800000" cy="1206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2987640" y="209520"/>
            <a:ext cx="1368360" cy="1347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5148360" y="195120"/>
            <a:ext cx="1739880" cy="143352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" descr=""/>
          <p:cNvPicPr/>
          <p:nvPr/>
        </p:nvPicPr>
        <p:blipFill>
          <a:blip r:embed="rId4"/>
          <a:stretch/>
        </p:blipFill>
        <p:spPr>
          <a:xfrm>
            <a:off x="7451640" y="189000"/>
            <a:ext cx="1312920" cy="13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91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ки контролируемых товаров и технологий  двойного назначения, которые предстоит разработать и утвердить в 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0" y="3068640"/>
            <a:ext cx="914400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сок микроорганизмов, токсинов и технологий, подлежащих экспертному контрол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сок товаров и технологий двойного назначения, которые могут быть использованы при создании вооружений и военной техники и в отношении которых осуществляется экспортный контро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сок химикатов, оборудования и технологий, которые могут быть использованы при создании химического оружия и в отношении которых установлен экспортный контро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243000" y="206280"/>
            <a:ext cx="1800000" cy="1206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2987640" y="209520"/>
            <a:ext cx="1368360" cy="1347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3"/>
          <a:stretch/>
        </p:blipFill>
        <p:spPr>
          <a:xfrm>
            <a:off x="5148360" y="195120"/>
            <a:ext cx="1739880" cy="14335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" descr=""/>
          <p:cNvPicPr/>
          <p:nvPr/>
        </p:nvPicPr>
        <p:blipFill>
          <a:blip r:embed="rId4"/>
          <a:stretch/>
        </p:blipFill>
        <p:spPr>
          <a:xfrm>
            <a:off x="7451640" y="189000"/>
            <a:ext cx="1312920" cy="13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148392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является технологией двойного назначения в биологической наук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0" y="2636640"/>
            <a:ext cx="91440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ми двойного назначения являются любые типы законных биологических инноваций, которые потенциально могут быть неправомерно использова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е знания могут содержаться в научных публикациях, в учебных материалах, презентациях, неопубликованных монографиях, лабораторных процедур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ми двойного использования могут быть, например, экспериментально полученные знания того, как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ить патоген, чтобы сделать его неопределяемым или устойчивым к вакцинам или лечению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ить спектр хозяев патогена, увеличить патогенный потенциал микроорганизма, увеличить инфекционность, патогена, создать новые биологические вещества, которые могут нанести серьёзный ущер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243000" y="206280"/>
            <a:ext cx="1800000" cy="1206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2987640" y="209520"/>
            <a:ext cx="1368360" cy="1347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3"/>
          <a:stretch/>
        </p:blipFill>
        <p:spPr>
          <a:xfrm>
            <a:off x="5148360" y="195120"/>
            <a:ext cx="1739880" cy="14335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" descr=""/>
          <p:cNvPicPr/>
          <p:nvPr/>
        </p:nvPicPr>
        <p:blipFill>
          <a:blip r:embed="rId4"/>
          <a:stretch/>
        </p:blipFill>
        <p:spPr>
          <a:xfrm>
            <a:off x="7451640" y="189000"/>
            <a:ext cx="1312920" cy="13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1557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ые, занимающиеся биологическими исследованиями двойного назначения обяза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79280" y="2924280"/>
            <a:ext cx="896472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оводить сознательно исследования производственных биологических агентов для использования в вооруженных конфлик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ять аспекты возможного двойного применения биомедицинских и бионаучных исследований, проведение оценки на каждом этапе риска исследовательского процесса, чтобы отразить и предвидеть альтернативные подходы, необходимые для устранения таких рис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243000" y="206280"/>
            <a:ext cx="1800000" cy="1206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2987640" y="209520"/>
            <a:ext cx="1368360" cy="1347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3"/>
          <a:stretch/>
        </p:blipFill>
        <p:spPr>
          <a:xfrm>
            <a:off x="5148360" y="195120"/>
            <a:ext cx="1739880" cy="143352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" descr=""/>
          <p:cNvPicPr/>
          <p:nvPr/>
        </p:nvPicPr>
        <p:blipFill>
          <a:blip r:embed="rId4"/>
          <a:stretch/>
        </p:blipFill>
        <p:spPr>
          <a:xfrm>
            <a:off x="7451640" y="189000"/>
            <a:ext cx="1312920" cy="13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628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должны делать ученые чтобы избегать или минимизировать риски злонамеренного использования результатов исследований двойного назна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0" y="2707920"/>
            <a:ext cx="91440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ценивать свои собственные исследовательские проекты на предмет потенциального «двойного использования» и представлять соответствующие отчет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ремиться «знать» литературные данные, руководства и требования, относящиеся к исследованию «двойного назначения»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учать других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лужить «образцом для подражания» с точки зрения ответственного пове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держивать «состояние готовности» в случае возможного неправильного использования научных исследова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243000" y="206280"/>
            <a:ext cx="1800000" cy="1206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2987640" y="209520"/>
            <a:ext cx="1368360" cy="1347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3"/>
          <a:stretch/>
        </p:blipFill>
        <p:spPr>
          <a:xfrm>
            <a:off x="5148360" y="195120"/>
            <a:ext cx="1739880" cy="14335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" descr=""/>
          <p:cNvPicPr/>
          <p:nvPr/>
        </p:nvPicPr>
        <p:blipFill>
          <a:blip r:embed="rId4"/>
          <a:stretch/>
        </p:blipFill>
        <p:spPr>
          <a:xfrm>
            <a:off x="7451640" y="189000"/>
            <a:ext cx="1312920" cy="13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4T03:10:48Z</dcterms:created>
  <dc:creator>User</dc:creator>
  <dc:description/>
  <dc:language>en-US</dc:language>
  <cp:lastModifiedBy>Samar</cp:lastModifiedBy>
  <dcterms:modified xsi:type="dcterms:W3CDTF">2021-04-15T13:14:23Z</dcterms:modified>
  <cp:revision>183</cp:revision>
  <dc:subject/>
  <dc:title>Слайд 1</dc:title>
</cp:coreProperties>
</file>